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F33D-76C9-4F32-BBAA-182E58BE3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06A1-44C2-4A9E-9254-30EF9204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0766-3BFA-4F77-9E23-45CF0717F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E322-AEA3-43F4-AB7E-07DDB3314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38C4-A6A8-4FDF-A800-747B7293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E7EE-1D7D-468C-A36A-84AFF4EB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CC07-D976-4B46-8B8A-BD480ECC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CD13-228B-41AE-9378-4BFD9834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147E-2B9A-4F7C-BD6E-96A5B49E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165E-830D-4CD8-8D8C-B6B872B9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F023-171F-41FC-8763-8021E960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9447-D8CC-41A9-9F4B-C929A37A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6215-66CA-477D-B573-A6F29A960F7A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C:/Users/USUARIO/Desktop/CURSO1314/EOEP-SEDE/FORMACI&#211;N_DSMV/DSM-V.ppt" TargetMode="External"/><Relationship Id="rId2" Type="http://schemas.openxmlformats.org/officeDocument/2006/relationships/slide" Target="slide3.xml"/><Relationship Id="rId3" Type="http://schemas.openxmlformats.org/officeDocument/2006/relationships/image" Target="../media/image1.png"/><Relationship Id="rId4" Type="http://schemas.openxmlformats.org/officeDocument/2006/relationships/slide" Target="slide4.xml"/><Relationship Id="rId5" Type="http://schemas.openxmlformats.org/officeDocument/2006/relationships/image" Target="../media/image2.png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" Target="slide2.xml"/><Relationship Id="rId10" Type="http://schemas.openxmlformats.org/officeDocument/2006/relationships/image" Target="../media/image5.png"/><Relationship Id="rId11" Type="http://schemas.openxmlformats.org/officeDocument/2006/relationships/slide" Target="slide6.xml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739C-4F12-4C7F-BD91-5B970C4562EA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8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15 Rectángulo redondeado"/>
          <p:cNvGrpSpPr/>
          <p:nvPr/>
        </p:nvGrpSpPr>
        <p:grpSpPr>
          <a:xfrm>
            <a:off x="2011320" y="2676600"/>
            <a:ext cx="4541760" cy="682560"/>
            <a:chOff x="2011320" y="2676600"/>
            <a:chExt cx="4541760" cy="682560"/>
          </a:xfrm>
        </p:grpSpPr>
        <p:pic>
          <p:nvPicPr>
            <p:cNvPr id="45" name="15 Rectángulo redondeado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011320" y="267660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100240" y="2743200"/>
              <a:ext cx="43718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Modelo alternativo del DSM-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17 Rectángulo redondeado"/>
          <p:cNvGrpSpPr/>
          <p:nvPr/>
        </p:nvGrpSpPr>
        <p:grpSpPr>
          <a:xfrm>
            <a:off x="79200" y="4248000"/>
            <a:ext cx="4548240" cy="684360"/>
            <a:chOff x="79200" y="4248000"/>
            <a:chExt cx="4548240" cy="684360"/>
          </a:xfrm>
        </p:grpSpPr>
        <p:pic>
          <p:nvPicPr>
            <p:cNvPr id="48" name="17 Rectángulo redondeado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9200" y="4248000"/>
              <a:ext cx="4548240" cy="6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171360" y="4314960"/>
              <a:ext cx="437220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: GRUPO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19 Rectángulo redondeado"/>
          <p:cNvGrpSpPr/>
          <p:nvPr/>
        </p:nvGrpSpPr>
        <p:grpSpPr>
          <a:xfrm>
            <a:off x="1865160" y="4962600"/>
            <a:ext cx="4548240" cy="682560"/>
            <a:chOff x="1865160" y="4962600"/>
            <a:chExt cx="4548240" cy="682560"/>
          </a:xfrm>
        </p:grpSpPr>
        <p:pic>
          <p:nvPicPr>
            <p:cNvPr id="51" name="19 Rectángulo redondeado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1865160" y="4962600"/>
              <a:ext cx="45482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1957320" y="502920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GRUPO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22 Rectángulo redondeado"/>
          <p:cNvGrpSpPr/>
          <p:nvPr/>
        </p:nvGrpSpPr>
        <p:grpSpPr>
          <a:xfrm>
            <a:off x="225360" y="536400"/>
            <a:ext cx="5114880" cy="676440"/>
            <a:chOff x="225360" y="536400"/>
            <a:chExt cx="5114880" cy="676440"/>
          </a:xfrm>
        </p:grpSpPr>
        <p:pic>
          <p:nvPicPr>
            <p:cNvPr id="54" name="22 Rectángulo redondeado" descr=""/>
            <p:cNvPicPr/>
            <p:nvPr/>
          </p:nvPicPr>
          <p:blipFill>
            <a:blip r:embed="rId8"/>
            <a:stretch/>
          </p:blipFill>
          <p:spPr>
            <a:xfrm>
              <a:off x="225360" y="536400"/>
              <a:ext cx="511488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14280" y="600120"/>
              <a:ext cx="4943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personalidad (T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24 Rectángulo redondeado"/>
          <p:cNvGrpSpPr/>
          <p:nvPr/>
        </p:nvGrpSpPr>
        <p:grpSpPr>
          <a:xfrm>
            <a:off x="2011320" y="1889280"/>
            <a:ext cx="4541760" cy="682560"/>
            <a:chOff x="2011320" y="1889280"/>
            <a:chExt cx="4541760" cy="682560"/>
          </a:xfrm>
        </p:grpSpPr>
        <p:pic>
          <p:nvPicPr>
            <p:cNvPr id="57" name="24 Rectángulo redondeado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2011320" y="188928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2100240" y="1957320"/>
              <a:ext cx="43718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Principales cambios en 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14 Rectángulo redondeado"/>
          <p:cNvGrpSpPr/>
          <p:nvPr/>
        </p:nvGrpSpPr>
        <p:grpSpPr>
          <a:xfrm>
            <a:off x="4084560" y="5608800"/>
            <a:ext cx="4541760" cy="682560"/>
            <a:chOff x="4084560" y="5608800"/>
            <a:chExt cx="4541760" cy="682560"/>
          </a:xfrm>
        </p:grpSpPr>
        <p:pic>
          <p:nvPicPr>
            <p:cNvPr id="60" name="14 Rectángulo redondeado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4084560" y="560880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172040" y="5672160"/>
              <a:ext cx="43718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GRUPO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E013-6317-4442-B050-1965C10586FD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8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15 Rectángulo redondeado"/>
          <p:cNvGrpSpPr/>
          <p:nvPr/>
        </p:nvGrpSpPr>
        <p:grpSpPr>
          <a:xfrm>
            <a:off x="725400" y="2322360"/>
            <a:ext cx="8047080" cy="4035600"/>
            <a:chOff x="725400" y="2322360"/>
            <a:chExt cx="8047080" cy="4035600"/>
          </a:xfrm>
        </p:grpSpPr>
        <p:pic>
          <p:nvPicPr>
            <p:cNvPr id="66" name="15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2322360"/>
              <a:ext cx="8047080" cy="403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977760" y="2549520"/>
              <a:ext cx="7545600" cy="35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Aproximación alternativa al diagnóstico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Criterios generales para 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Elementos del funcionamiento de la personalidad como un continuo. Nivel de desajuste global actual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- con rasgo específico (desajuste moderado de la personalidad y presencia de rasgos patológicos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22 Rectángulo redondeado"/>
          <p:cNvGrpSpPr/>
          <p:nvPr/>
        </p:nvGrpSpPr>
        <p:grpSpPr>
          <a:xfrm>
            <a:off x="225360" y="536400"/>
            <a:ext cx="5114880" cy="676440"/>
            <a:chOff x="225360" y="536400"/>
            <a:chExt cx="5114880" cy="676440"/>
          </a:xfrm>
        </p:grpSpPr>
        <p:pic>
          <p:nvPicPr>
            <p:cNvPr id="69" name="22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225360" y="536400"/>
              <a:ext cx="511488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314280" y="600120"/>
              <a:ext cx="4943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personalidad (T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24 Rectángulo redondeado"/>
          <p:cNvGrpSpPr/>
          <p:nvPr/>
        </p:nvGrpSpPr>
        <p:grpSpPr>
          <a:xfrm>
            <a:off x="225360" y="1536840"/>
            <a:ext cx="4541760" cy="682560"/>
            <a:chOff x="225360" y="1536840"/>
            <a:chExt cx="4541760" cy="682560"/>
          </a:xfrm>
        </p:grpSpPr>
        <p:pic>
          <p:nvPicPr>
            <p:cNvPr id="72" name="24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225360" y="153684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14280" y="160020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Principales cambios en 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75" name="10 Flecha izquierda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6D98-146F-4108-A043-4F29CE02317A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8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15 Rectángulo redondeado"/>
          <p:cNvGrpSpPr/>
          <p:nvPr/>
        </p:nvGrpSpPr>
        <p:grpSpPr>
          <a:xfrm>
            <a:off x="512640" y="1676520"/>
            <a:ext cx="4540320" cy="682560"/>
            <a:chOff x="512640" y="1676520"/>
            <a:chExt cx="4540320" cy="682560"/>
          </a:xfrm>
        </p:grpSpPr>
        <p:pic>
          <p:nvPicPr>
            <p:cNvPr id="81" name="15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512640" y="1676520"/>
              <a:ext cx="454032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600120" y="1743120"/>
              <a:ext cx="43718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Modelo alternativo del DSM-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22 Rectángulo redondeado"/>
          <p:cNvGrpSpPr/>
          <p:nvPr/>
        </p:nvGrpSpPr>
        <p:grpSpPr>
          <a:xfrm>
            <a:off x="225360" y="536400"/>
            <a:ext cx="5114880" cy="676440"/>
            <a:chOff x="225360" y="536400"/>
            <a:chExt cx="5114880" cy="676440"/>
          </a:xfrm>
        </p:grpSpPr>
        <p:pic>
          <p:nvPicPr>
            <p:cNvPr id="84" name="22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225360" y="536400"/>
              <a:ext cx="511488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314280" y="600120"/>
              <a:ext cx="4943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personalidad (T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14 Rectángulo redondeado"/>
          <p:cNvGrpSpPr/>
          <p:nvPr/>
        </p:nvGrpSpPr>
        <p:grpSpPr>
          <a:xfrm>
            <a:off x="512640" y="2535120"/>
            <a:ext cx="8113680" cy="3756240"/>
            <a:chOff x="512640" y="2535120"/>
            <a:chExt cx="8113680" cy="3756240"/>
          </a:xfrm>
        </p:grpSpPr>
        <p:pic>
          <p:nvPicPr>
            <p:cNvPr id="87" name="14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512640" y="2535120"/>
              <a:ext cx="8113680" cy="375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749160" y="2749680"/>
              <a:ext cx="7645680" cy="32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Criterios generales TP (7 criterios de desajuste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Elementos del funcionamiento de la personalida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Del yo: identidad y auto-direc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Interpersonal: empatía e intimida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Evaluación de los rasgos patológicos: afectividad negativa, distanciamiento, antagonismo, desinhibición, psicoticismo. Otros 25 específico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90" name="10 Flecha izquierda" descr=""/>
            <p:cNvPicPr/>
            <p:nvPr/>
          </p:nvPicPr>
          <p:blipFill>
            <a:blip r:embed="rId4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D200-1A2C-40C5-A530-E97257AC5F85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8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17 Rectángulo redondeado"/>
          <p:cNvGrpSpPr/>
          <p:nvPr/>
        </p:nvGrpSpPr>
        <p:grpSpPr>
          <a:xfrm>
            <a:off x="225360" y="1609560"/>
            <a:ext cx="4541760" cy="676440"/>
            <a:chOff x="225360" y="1609560"/>
            <a:chExt cx="4541760" cy="676440"/>
          </a:xfrm>
        </p:grpSpPr>
        <p:pic>
          <p:nvPicPr>
            <p:cNvPr id="96" name="17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225360" y="1609560"/>
              <a:ext cx="454176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14280" y="167148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: GRUPO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19 Rectángulo redondeado"/>
          <p:cNvGrpSpPr/>
          <p:nvPr/>
        </p:nvGrpSpPr>
        <p:grpSpPr>
          <a:xfrm>
            <a:off x="798480" y="2462040"/>
            <a:ext cx="4541760" cy="682920"/>
            <a:chOff x="798480" y="2462040"/>
            <a:chExt cx="4541760" cy="682920"/>
          </a:xfrm>
        </p:grpSpPr>
        <p:pic>
          <p:nvPicPr>
            <p:cNvPr id="99" name="19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798480" y="2462040"/>
              <a:ext cx="454176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885960" y="2529000"/>
              <a:ext cx="437184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Paranoid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22 Rectángulo redondeado"/>
          <p:cNvGrpSpPr/>
          <p:nvPr/>
        </p:nvGrpSpPr>
        <p:grpSpPr>
          <a:xfrm>
            <a:off x="225360" y="536400"/>
            <a:ext cx="5114880" cy="676440"/>
            <a:chOff x="225360" y="536400"/>
            <a:chExt cx="5114880" cy="676440"/>
          </a:xfrm>
        </p:grpSpPr>
        <p:pic>
          <p:nvPicPr>
            <p:cNvPr id="102" name="22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225360" y="536400"/>
              <a:ext cx="511488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14280" y="600120"/>
              <a:ext cx="4943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personalidad (T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14 Rectángulo redondeado"/>
          <p:cNvGrpSpPr/>
          <p:nvPr/>
        </p:nvGrpSpPr>
        <p:grpSpPr>
          <a:xfrm>
            <a:off x="798480" y="3249720"/>
            <a:ext cx="4541760" cy="682560"/>
            <a:chOff x="798480" y="3249720"/>
            <a:chExt cx="4541760" cy="682560"/>
          </a:xfrm>
        </p:grpSpPr>
        <p:pic>
          <p:nvPicPr>
            <p:cNvPr id="105" name="14 Rectángulo redondeado" descr=""/>
            <p:cNvPicPr/>
            <p:nvPr/>
          </p:nvPicPr>
          <p:blipFill>
            <a:blip r:embed="rId4"/>
            <a:stretch/>
          </p:blipFill>
          <p:spPr>
            <a:xfrm>
              <a:off x="798480" y="324972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885960" y="3314880"/>
              <a:ext cx="437184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Esquizoid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10 Rectángulo redondeado"/>
          <p:cNvGrpSpPr/>
          <p:nvPr/>
        </p:nvGrpSpPr>
        <p:grpSpPr>
          <a:xfrm>
            <a:off x="798480" y="4035600"/>
            <a:ext cx="4541760" cy="682560"/>
            <a:chOff x="798480" y="4035600"/>
            <a:chExt cx="4541760" cy="682560"/>
          </a:xfrm>
        </p:grpSpPr>
        <p:pic>
          <p:nvPicPr>
            <p:cNvPr id="108" name="10 Rectángulo redondeado" descr=""/>
            <p:cNvPicPr/>
            <p:nvPr/>
          </p:nvPicPr>
          <p:blipFill>
            <a:blip r:embed="rId5"/>
            <a:stretch/>
          </p:blipFill>
          <p:spPr>
            <a:xfrm>
              <a:off x="798480" y="403560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885960" y="4100400"/>
              <a:ext cx="43718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Esquizotípic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11" name="11 Flecha izquierda" descr=""/>
            <p:cNvPicPr/>
            <p:nvPr/>
          </p:nvPicPr>
          <p:blipFill>
            <a:blip r:embed="rId6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D1AF-01CC-48A8-BAFB-75CEF21B8468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8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17 Rectángulo redondeado"/>
          <p:cNvGrpSpPr/>
          <p:nvPr/>
        </p:nvGrpSpPr>
        <p:grpSpPr>
          <a:xfrm>
            <a:off x="225360" y="1609560"/>
            <a:ext cx="4541760" cy="676440"/>
            <a:chOff x="225360" y="1609560"/>
            <a:chExt cx="4541760" cy="676440"/>
          </a:xfrm>
        </p:grpSpPr>
        <p:pic>
          <p:nvPicPr>
            <p:cNvPr id="117" name="17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225360" y="1609560"/>
              <a:ext cx="454176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314280" y="167148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: GRUPO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19 Rectángulo redondeado"/>
          <p:cNvGrpSpPr/>
          <p:nvPr/>
        </p:nvGrpSpPr>
        <p:grpSpPr>
          <a:xfrm>
            <a:off x="798480" y="2462040"/>
            <a:ext cx="4541760" cy="682920"/>
            <a:chOff x="798480" y="2462040"/>
            <a:chExt cx="4541760" cy="682920"/>
          </a:xfrm>
        </p:grpSpPr>
        <p:pic>
          <p:nvPicPr>
            <p:cNvPr id="120" name="19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798480" y="2462040"/>
              <a:ext cx="454176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885960" y="2529000"/>
              <a:ext cx="437184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ANTISOCI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22 Rectángulo redondeado"/>
          <p:cNvGrpSpPr/>
          <p:nvPr/>
        </p:nvGrpSpPr>
        <p:grpSpPr>
          <a:xfrm>
            <a:off x="225360" y="536400"/>
            <a:ext cx="5114880" cy="676440"/>
            <a:chOff x="225360" y="536400"/>
            <a:chExt cx="5114880" cy="676440"/>
          </a:xfrm>
        </p:grpSpPr>
        <p:pic>
          <p:nvPicPr>
            <p:cNvPr id="123" name="22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225360" y="536400"/>
              <a:ext cx="511488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314280" y="600120"/>
              <a:ext cx="4943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personalidad (T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14 Rectángulo redondeado"/>
          <p:cNvGrpSpPr/>
          <p:nvPr/>
        </p:nvGrpSpPr>
        <p:grpSpPr>
          <a:xfrm>
            <a:off x="798480" y="3249720"/>
            <a:ext cx="4541760" cy="682560"/>
            <a:chOff x="798480" y="3249720"/>
            <a:chExt cx="4541760" cy="682560"/>
          </a:xfrm>
        </p:grpSpPr>
        <p:pic>
          <p:nvPicPr>
            <p:cNvPr id="126" name="14 Rectángulo redondeado" descr=""/>
            <p:cNvPicPr/>
            <p:nvPr/>
          </p:nvPicPr>
          <p:blipFill>
            <a:blip r:embed="rId4"/>
            <a:stretch/>
          </p:blipFill>
          <p:spPr>
            <a:xfrm>
              <a:off x="798480" y="324972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885960" y="3314880"/>
              <a:ext cx="437184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LIMIT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10 Rectángulo redondeado"/>
          <p:cNvGrpSpPr/>
          <p:nvPr/>
        </p:nvGrpSpPr>
        <p:grpSpPr>
          <a:xfrm>
            <a:off x="798480" y="4035600"/>
            <a:ext cx="4541760" cy="682560"/>
            <a:chOff x="798480" y="4035600"/>
            <a:chExt cx="4541760" cy="682560"/>
          </a:xfrm>
        </p:grpSpPr>
        <p:pic>
          <p:nvPicPr>
            <p:cNvPr id="129" name="10 Rectángulo redondeado" descr=""/>
            <p:cNvPicPr/>
            <p:nvPr/>
          </p:nvPicPr>
          <p:blipFill>
            <a:blip r:embed="rId5"/>
            <a:stretch/>
          </p:blipFill>
          <p:spPr>
            <a:xfrm>
              <a:off x="798480" y="403560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885960" y="4100400"/>
              <a:ext cx="43718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HISTRION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9 Rectángulo redondeado"/>
          <p:cNvGrpSpPr/>
          <p:nvPr/>
        </p:nvGrpSpPr>
        <p:grpSpPr>
          <a:xfrm>
            <a:off x="798480" y="4748040"/>
            <a:ext cx="4541760" cy="682920"/>
            <a:chOff x="798480" y="4748040"/>
            <a:chExt cx="4541760" cy="682920"/>
          </a:xfrm>
        </p:grpSpPr>
        <p:pic>
          <p:nvPicPr>
            <p:cNvPr id="132" name="9 Rectángulo redondeado" descr=""/>
            <p:cNvPicPr/>
            <p:nvPr/>
          </p:nvPicPr>
          <p:blipFill>
            <a:blip r:embed="rId6"/>
            <a:stretch/>
          </p:blipFill>
          <p:spPr>
            <a:xfrm>
              <a:off x="798480" y="4748040"/>
              <a:ext cx="454176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885960" y="4815000"/>
              <a:ext cx="437184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NARCISIS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35" name="11 Flecha izquierda" descr=""/>
            <p:cNvPicPr/>
            <p:nvPr/>
          </p:nvPicPr>
          <p:blipFill>
            <a:blip r:embed="rId7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4435-629C-4598-9CA1-1ED1D13A95B9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8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17 Rectángulo redondeado"/>
          <p:cNvGrpSpPr/>
          <p:nvPr/>
        </p:nvGrpSpPr>
        <p:grpSpPr>
          <a:xfrm>
            <a:off x="225360" y="1609560"/>
            <a:ext cx="4541760" cy="676440"/>
            <a:chOff x="225360" y="1609560"/>
            <a:chExt cx="4541760" cy="676440"/>
          </a:xfrm>
        </p:grpSpPr>
        <p:pic>
          <p:nvPicPr>
            <p:cNvPr id="141" name="17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225360" y="1609560"/>
              <a:ext cx="454176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314280" y="167148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: GRUPO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19 Rectángulo redondeado"/>
          <p:cNvGrpSpPr/>
          <p:nvPr/>
        </p:nvGrpSpPr>
        <p:grpSpPr>
          <a:xfrm>
            <a:off x="798480" y="2462040"/>
            <a:ext cx="4541760" cy="682920"/>
            <a:chOff x="798480" y="2462040"/>
            <a:chExt cx="4541760" cy="682920"/>
          </a:xfrm>
        </p:grpSpPr>
        <p:pic>
          <p:nvPicPr>
            <p:cNvPr id="144" name="19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798480" y="2462040"/>
              <a:ext cx="454176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885960" y="2529000"/>
              <a:ext cx="437184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EVASI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22 Rectángulo redondeado"/>
          <p:cNvGrpSpPr/>
          <p:nvPr/>
        </p:nvGrpSpPr>
        <p:grpSpPr>
          <a:xfrm>
            <a:off x="225360" y="536400"/>
            <a:ext cx="5114880" cy="676440"/>
            <a:chOff x="225360" y="536400"/>
            <a:chExt cx="5114880" cy="676440"/>
          </a:xfrm>
        </p:grpSpPr>
        <p:pic>
          <p:nvPicPr>
            <p:cNvPr id="147" name="22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225360" y="536400"/>
              <a:ext cx="511488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314280" y="600120"/>
              <a:ext cx="4943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personalidad (T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14 Rectángulo redondeado"/>
          <p:cNvGrpSpPr/>
          <p:nvPr/>
        </p:nvGrpSpPr>
        <p:grpSpPr>
          <a:xfrm>
            <a:off x="798480" y="3249720"/>
            <a:ext cx="4541760" cy="682560"/>
            <a:chOff x="798480" y="3249720"/>
            <a:chExt cx="4541760" cy="682560"/>
          </a:xfrm>
        </p:grpSpPr>
        <p:pic>
          <p:nvPicPr>
            <p:cNvPr id="150" name="14 Rectángulo redondeado" descr=""/>
            <p:cNvPicPr/>
            <p:nvPr/>
          </p:nvPicPr>
          <p:blipFill>
            <a:blip r:embed="rId4"/>
            <a:stretch/>
          </p:blipFill>
          <p:spPr>
            <a:xfrm>
              <a:off x="798480" y="324972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885960" y="3314880"/>
              <a:ext cx="437184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DEPENDIENT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10 Rectángulo redondeado"/>
          <p:cNvGrpSpPr/>
          <p:nvPr/>
        </p:nvGrpSpPr>
        <p:grpSpPr>
          <a:xfrm>
            <a:off x="798480" y="4035600"/>
            <a:ext cx="4541760" cy="682560"/>
            <a:chOff x="798480" y="4035600"/>
            <a:chExt cx="4541760" cy="682560"/>
          </a:xfrm>
        </p:grpSpPr>
        <p:pic>
          <p:nvPicPr>
            <p:cNvPr id="153" name="10 Rectángulo redondeado" descr=""/>
            <p:cNvPicPr/>
            <p:nvPr/>
          </p:nvPicPr>
          <p:blipFill>
            <a:blip r:embed="rId5"/>
            <a:stretch/>
          </p:blipFill>
          <p:spPr>
            <a:xfrm>
              <a:off x="798480" y="403560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885960" y="4100400"/>
              <a:ext cx="43718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OBSESIVO-COMPULSI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56" name="11 Flecha izquierda" descr=""/>
            <p:cNvPicPr/>
            <p:nvPr/>
          </p:nvPicPr>
          <p:blipFill>
            <a:blip r:embed="rId6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1T23:42:51Z</dcterms:created>
  <dc:creator>USUARIO</dc:creator>
  <dc:description/>
  <dc:language>en-US</dc:language>
  <cp:lastModifiedBy>USUARIO</cp:lastModifiedBy>
  <dcterms:modified xsi:type="dcterms:W3CDTF">2014-06-02T00:00:41Z</dcterms:modified>
  <cp:revision>6</cp:revision>
  <dc:subject/>
  <dc:title>DSM-V</dc:title>
</cp:coreProperties>
</file>